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87D3-2DC0-4021-8666-998BC562B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6C85-5DD9-4FE4-91DF-DD7762B02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E85C-3B60-429A-A97A-C06C96088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D97D-FFF9-45C4-9692-849F63632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DB4B-EFE3-46E3-A451-E6B35D5BC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9FD1-73AF-4B7A-91A9-E5325AA73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7068-4107-44BB-936A-6E0244967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BAEC-B1AE-4DB9-823A-400EC0D4F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465B-9E57-489F-B420-03CBCB9FF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63F9-AF17-4669-AB9A-E2A233991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9CBF-9A55-4A67-9732-D703D6AE9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C7C1-65B4-4D3C-9363-66CA5378E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434CE-F360-4585-89D0-EE22226E8BB8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477480" y="5964120"/>
            <a:ext cx="258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ioneers of Science &amp; Technolog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"/>
          <p:cNvSpPr/>
          <p:nvPr/>
        </p:nvSpPr>
        <p:spPr>
          <a:xfrm>
            <a:off x="6707160" y="6019920"/>
            <a:ext cx="218124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88920" y="4038480"/>
            <a:ext cx="8974080" cy="1862280"/>
          </a:xfrm>
          <a:prstGeom prst="rect">
            <a:avLst/>
          </a:prstGeom>
          <a:solidFill>
            <a:srgbClr val="2f4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88920" y="5661000"/>
            <a:ext cx="8974080" cy="241200"/>
          </a:xfrm>
          <a:prstGeom prst="rect">
            <a:avLst/>
          </a:prstGeom>
          <a:solidFill>
            <a:srgbClr val="427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88920" y="4354560"/>
            <a:ext cx="8974080" cy="129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807000" y="4527720"/>
            <a:ext cx="1063440" cy="9792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141880" y="4729320"/>
            <a:ext cx="623880" cy="574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6037200" y="4527720"/>
            <a:ext cx="1063800" cy="9792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7153200" y="4527720"/>
            <a:ext cx="1063800" cy="97920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Welcome to Imhotep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333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Action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6238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Weak Poin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1557360"/>
            <a:ext cx="7705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Rendering Speed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Memory Problem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Lazy GUI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Script Suppor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Animation Suppor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Futur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mainfrm"/>
          <p:cNvSpPr/>
          <p:nvPr/>
        </p:nvSpPr>
        <p:spPr>
          <a:xfrm>
            <a:off x="704880" y="1681200"/>
            <a:ext cx="547560" cy="95724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computr4"/>
          <p:cNvSpPr/>
          <p:nvPr/>
        </p:nvSpPr>
        <p:spPr>
          <a:xfrm>
            <a:off x="2627280" y="1628640"/>
            <a:ext cx="695520" cy="106200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computr2"/>
          <p:cNvSpPr/>
          <p:nvPr/>
        </p:nvSpPr>
        <p:spPr>
          <a:xfrm>
            <a:off x="7380360" y="1916280"/>
            <a:ext cx="901800" cy="90324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6" name=""/>
          <p:cNvCxnSpPr>
            <a:stCxn id="113" idx="8"/>
            <a:endCxn id="114" idx="4"/>
          </p:cNvCxnSpPr>
          <p:nvPr/>
        </p:nvCxnSpPr>
        <p:spPr>
          <a:xfrm>
            <a:off x="1266480" y="2160360"/>
            <a:ext cx="1346400" cy="1080"/>
          </a:xfrm>
          <a:prstGeom prst="straightConnector1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059280" y="3645000"/>
            <a:ext cx="4173480" cy="24192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580000" y="2276640"/>
            <a:ext cx="0" cy="1296720"/>
          </a:xfrm>
          <a:prstGeom prst="line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9" name=""/>
          <p:cNvCxnSpPr>
            <a:stCxn id="114" idx="5"/>
            <a:endCxn id="115" idx="10"/>
          </p:cNvCxnSpPr>
          <p:nvPr/>
        </p:nvCxnSpPr>
        <p:spPr>
          <a:xfrm flipV="1">
            <a:off x="3336840" y="2158200"/>
            <a:ext cx="4207680" cy="2520"/>
          </a:xfrm>
          <a:prstGeom prst="straightConnector1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468360" y="2852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Back-e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2340000" y="2852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Middle-war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7164360" y="2924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Front-e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Thanks for your time…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2565360"/>
            <a:ext cx="756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Stencil"/>
              </a:rPr>
              <a:t>http://imhotep.gyeyoung.co.kr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11280" y="3500280"/>
            <a:ext cx="788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Stencil"/>
              </a:rPr>
              <a:t>http://kldp.net/projects/imhotep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bout SVG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755640" y="1557360"/>
            <a:ext cx="7705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Scalable Vector Graphic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XML Graphics for Web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2D Graphics in XML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Industry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GIS and Mapping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Web Application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Mobil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View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Edito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Model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Convert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Librarie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4360" y="1773360"/>
            <a:ext cx="7559640" cy="3960720"/>
            <a:chOff x="684360" y="1773360"/>
            <a:chExt cx="7559640" cy="3960720"/>
          </a:xfrm>
        </p:grpSpPr>
        <p:sp>
          <p:nvSpPr>
            <p:cNvPr id="77" name=""/>
            <p:cNvSpPr/>
            <p:nvPr/>
          </p:nvSpPr>
          <p:spPr>
            <a:xfrm>
              <a:off x="6407280" y="4703760"/>
              <a:ext cx="86364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Menu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4360" y="5302080"/>
              <a:ext cx="158724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Ycadv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372360" y="5302080"/>
              <a:ext cx="796680" cy="4320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JGoodie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411280" y="5302080"/>
              <a:ext cx="273708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Batik 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292720" y="5302080"/>
              <a:ext cx="93492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NetBean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76720" y="4703760"/>
              <a:ext cx="93492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Canva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48000" y="3328920"/>
              <a:ext cx="151128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Laye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348000" y="4105440"/>
              <a:ext cx="489600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Edito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364000" y="4703760"/>
              <a:ext cx="93528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ourc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319640" y="4703760"/>
              <a:ext cx="93492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Preview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4360" y="2730600"/>
              <a:ext cx="2592360" cy="3967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VG Converter (Consol)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4360" y="3357720"/>
              <a:ext cx="2519280" cy="183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Transcode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419640" y="2730600"/>
              <a:ext cx="4752720" cy="3967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VG Editor (GUI)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4360" y="1773360"/>
              <a:ext cx="7488000" cy="75708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Imhotep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380360" y="4703760"/>
              <a:ext cx="863640" cy="957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Model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Undo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Tool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003640" y="3328920"/>
              <a:ext cx="172908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Dom Tre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877080" y="3328920"/>
              <a:ext cx="136692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Propertie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333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Mod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566748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333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View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6743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李光植</cp:lastModifiedBy>
  <dcterms:modified xsi:type="dcterms:W3CDTF">2005-02-04T03:05:47Z</dcterms:modified>
  <cp:revision>9</cp:revision>
  <dc:subject/>
  <dc:title>PowerPoint Presentation</dc:title>
</cp:coreProperties>
</file>